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220-D49D-45AF-A0A7-131EBA3F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04E-4CB0-4C0D-9688-A99D419C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9685-A303-4E88-9DC0-EC4C6434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85B-E01D-4C0B-B66D-5FF43DB3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390-B055-4709-AA54-37A3B53F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EEF6-93A0-426C-BC73-D6D09397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9FA-B2BC-4845-B2CF-8AF21E2C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2D50-B684-4348-8F0A-619B8FA9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8206-92AD-4F12-821D-E1263862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884-3B06-4850-95DB-27D36B8A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8AC-012F-4A1B-84D6-70241365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FD6-FE33-433C-84DE-220E37E8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46F7-779F-423D-AAB3-028087583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900000" y="852480"/>
            <a:ext cx="7344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2:47:36Z</dcterms:created>
  <dc:creator>Administrator</dc:creator>
  <dc:description/>
  <dc:language>en-US</dc:language>
  <cp:lastModifiedBy>Administrator</cp:lastModifiedBy>
  <dcterms:modified xsi:type="dcterms:W3CDTF">2011-09-21T12:53:35Z</dcterms:modified>
  <cp:revision>1</cp:revision>
  <dc:subject/>
  <dc:title>Slide 1</dc:title>
</cp:coreProperties>
</file>